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074C7-E8AE-453D-8452-F2F7886EE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1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D7B2AD3-CC6B-49C2-8034-7A247107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E4B-BD79-4647-A4C3-40C85523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F52-72C1-4664-AE81-832704B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6B0-C955-4781-8045-1D82E4DA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510-B572-481B-9982-65C21E5C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6A4-01FC-455B-8DE8-ADDD4E34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EC2-7C9F-4E3A-8DAD-AC92D76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10A3-A8F6-43E7-833B-C6E47FDF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3E6-64E5-49F9-908E-0A0C7F5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45F3-47C5-4CB5-9F53-4629C8B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41CD-2BDF-43F2-8DD9-F6C7ED9A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CA4A-38ED-451A-9702-30D6A48F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313-FEF6-459D-A7E5-1D0DCB7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3A3B-FD61-4990-B6C4-8367A81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A16-4A4B-4E1A-8B78-763BC8E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B3B-363B-4320-A712-11A1EC6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CA9E-6952-4B5E-A781-227399FC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575-0404-4A1F-9D4C-05990870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5349-4877-49D6-BAEE-92797F5C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5D29-E490-4BA5-8EBA-2E02C8B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FB18-046B-4617-B5A7-C057CEA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B67D-B6FC-4378-8D5B-B56ABA1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9824-B3DC-4ED5-ADAC-84FE7525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079-6576-4EEB-90D8-9C8EA940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50AB-FF24-4BCD-8690-8F5C956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4401-BBFC-4F98-9A05-970E1DE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A90F-45E6-427C-BFF3-F552D19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748A-5B1D-4FEE-B9F7-4AD17E4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EA65-E89F-4581-A9B0-8348E6E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0FD9-58EA-4BEA-8E11-73FC88B3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E9E1-0394-4813-BD07-FE64C09F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B94-04D4-4A3B-9259-738782A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2EA-26AF-4D89-B254-3F81E0F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A66-78F6-452E-9494-C0D13EC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5E3-D912-4B68-A1DE-E904CA0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6A4-9092-4391-AB72-66F5AC2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94E-3950-4F23-9F89-1E5B51F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دائرة مجوفة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مستطيل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مستطيل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نقر لتحرير نمط العنوان الرئيسي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14CAAD5C-5E1A-419E-8D6F-501A2AB82D6E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شكل بيضاوي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دائرة مجوفة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مستطيل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مستطيل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نقر لتحرير نمط العنوان الرئيسي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 algn="r" rtl="1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نقر لتحرير أنماط النص الرئيس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 algn="r" rtl="1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المستوى الثاني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 algn="r" rtl="1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مستوى الثال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 algn="r" rtl="1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 algn="r" rtl="1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المستوى الخامس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685B5FB3-5C4D-4709-BFA0-206CE06A64AD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دائري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شكل بيضاوي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دائرة مجوفة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مستطيل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مستطيل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مستطيل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E73069F-5199-446E-BCC5-884CFA2B45D7}" type="slidenum">
              <a:rPr b="0" lang="en-US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مستطيل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640" y="1412640"/>
            <a:ext cx="6048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29000"/>
          </a:bodyPr>
          <a:p>
            <a:pPr indent="0" rtl="1">
              <a:lnSpc>
                <a:spcPct val="100000"/>
              </a:lnSpc>
              <a:buNone/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3 /Lecture #4</a:t>
            </a:r>
            <a:br>
              <a:rPr sz="4300"/>
            </a:b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Brute Force and</a:t>
            </a:r>
            <a:br>
              <a:rPr sz="4300"/>
            </a:b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xhaustive Search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9C9-7D65-4753-8B53-D5834451B1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buNone/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9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 examples on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haustive search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veling Salesman Probl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apsack Probl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10AB-9AC2-4FF2-8FCC-4303F11D3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Traveling Salesman Problem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 statemen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problem asks to find the shortest tour through a given se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cities that visits each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ty exactly once before returning to the city where it start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stated as the problem of finding the shortest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Hamiltonian circuit of the grap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Hamiltonian circuit is: defined as a cycle that passes through all the vertices of the graph exactly on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987-F001-4DFC-A5A9-C8E116777D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7640" y="274680"/>
            <a:ext cx="86760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on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ing Salesman Problem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407640" y="1412640"/>
            <a:ext cx="2736000" cy="21045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53640" y="2061000"/>
            <a:ext cx="6750360" cy="36000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009-500A-4FBD-8666-EA911AC81D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r" rtl="1">
              <a:buNone/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Knapsack Probl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is another well-known problem in algorithmic. Given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 items of know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ights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w1, w2, . . . , wn and values v1, v2, . . . , vn and a knapsack of capacity W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nd the most valuable subset of the items that fit into the knapsa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CDFA-1562-4A70-8E79-CB0BAB7DB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on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Knapsack Problem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blem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ing Brute Force and Exhaustive Search to Solve the following knapsack problem with 4 items {I1,I2,I3,I4}and the items weight is {w1=7,w2= 3,w3=4 ,w4=5} and there values {v1=42$,v2=12$,v3=40$ v4=25$}, The knapsack weight is 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4DEA-A808-49A1-A36B-85C43C33F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862280" y="905040"/>
            <a:ext cx="5419440" cy="504792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40A7-6E83-4B5A-A45F-535BE29D4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817760" cy="41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Exercise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  : Using Brute Force and Exhaustive Search to Solve the following knapsack problem with 4 items The knapsack weight is 8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8" name="Group 60"/>
          <p:cNvGrpSpPr/>
          <p:nvPr/>
        </p:nvGrpSpPr>
        <p:grpSpPr>
          <a:xfrm>
            <a:off x="539640" y="3213000"/>
            <a:ext cx="4812120" cy="1000440"/>
            <a:chOff x="539640" y="3213000"/>
            <a:chExt cx="4812120" cy="1000440"/>
          </a:xfrm>
        </p:grpSpPr>
        <p:sp>
          <p:nvSpPr>
            <p:cNvPr id="179" name="Text Box 13"/>
            <p:cNvSpPr/>
            <p:nvPr/>
          </p:nvSpPr>
          <p:spPr>
            <a:xfrm>
              <a:off x="539640" y="3285000"/>
              <a:ext cx="1303560" cy="928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1620360" y="3285000"/>
              <a:ext cx="1279080" cy="928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>
              <a:off x="2526840" y="3285000"/>
              <a:ext cx="1279080" cy="928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7"/>
            <p:cNvSpPr/>
            <p:nvPr/>
          </p:nvSpPr>
          <p:spPr>
            <a:xfrm>
              <a:off x="3956400" y="3213000"/>
              <a:ext cx="1395360" cy="928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760" indent="-283320" algn="r" rtl="1">
                <a:lnSpc>
                  <a:spcPct val="11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389-E686-49FC-B565-7F0DE36AC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gorithm  strategies( approaches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rute Force and Exhaustive 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vide –and –conquer  algorithm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nary- 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eedy algorithm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3512-44D3-4B81-91BE-886E0E56E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Brute force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9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Brute force 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a straightforward approach to solving a problem, usually directly based on the problem statement and definitions of the concepts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FE3-CDA8-4BF6-BE17-C78B6930D9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rtl="1">
              <a:lnSpc>
                <a:spcPct val="100000"/>
              </a:lnSpc>
              <a:buNone/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plications of the brute-force approach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lem of sorting :(given a list of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 orderable items (e.g., numbers, character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m some alphabet, character strings), rearrange them in nondecreasing ord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 sorting algorithm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lection Sort 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ubble S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F76A-F9C5-483A-AFB4-2DCBF327A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Selection Sor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d the smallest element in the arr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change it with the element in the first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d the second smallest element and exchange it with the element in the second 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inue until the array is sor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 complexity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1D0-641D-4553-A20C-BE30C7099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Selection Sor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640" y="1447920"/>
            <a:ext cx="774576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LGORITHM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SelectionSort(A[0..n − 1]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Sorts a given array by selection s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Input: An array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[0..n − 1] of orderable el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Output: Array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[0..n − 1] sorted in nondecreasing 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i ←0 to n − 2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min←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j ←i + 1 to n − 1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A[j ]&lt;A[min] min←j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wap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[i] and A[min]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ABE-0DC8-4010-956C-67C6BC87E5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Bubble Sor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eatedly pass through the arr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aps adjacent elements that are out of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 complexity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FC4E-5041-47AA-B8A4-EB0D07813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Bubble Sor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LGORITHM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Bubble Sort(A[0..n − 1]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Sorts a given array by bubble s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Input: An array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[0..n − 1] of orderable el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//Output: Array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A[0..n − 1] sorted in nondecreasing 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i ←0 to n − 2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Gill Sans MT"/>
              </a:rPr>
              <a:t>for </a:t>
            </a:r>
            <a:r>
              <a:rPr b="1" i="1" lang="pt-BR" sz="3200" spc="-1" strike="noStrike">
                <a:solidFill>
                  <a:srgbClr val="000000"/>
                </a:solidFill>
                <a:latin typeface="Gill Sans MT"/>
              </a:rPr>
              <a:t>j ←0 to n − 2 − i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A[j + 1]&lt;A[j ] swap A[j ] and A[j + 1]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4CE-3F5C-4A93-9220-2CA0E8394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572314"/>
                </a:solidFill>
                <a:latin typeface="Gill Sans MT"/>
              </a:rPr>
              <a:t>Exhaustive search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Exhaustive search is simply a brute-force approa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suggests generating each and every element of the problem domain, selec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of them that satisfy all the constraints, and then finding a des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lement (e.g., the one that optimizes some objective function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D678-65D4-4BBE-A3F5-1CF648A15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انقلاب">
  <a:themeElements>
    <a:clrScheme name="انقلاب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انقلاب">
  <a:themeElements>
    <a:clrScheme name="انقلاب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انقلاب">
  <a:themeElements>
    <a:clrScheme name="انقلاب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02</TotalTime>
  <Application>LibreOffice/7.4.7.2$Linux_X86_64 LibreOffice_project/40$Build-2</Application>
  <AppVersion>15.0000</AppVersion>
  <Words>646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5:59:53Z</dcterms:created>
  <dc:creator>Aspire</dc:creator>
  <dc:description/>
  <dc:language>en-US</dc:language>
  <cp:lastModifiedBy>Aspire</cp:lastModifiedBy>
  <dcterms:modified xsi:type="dcterms:W3CDTF">2014-03-04T08:36:05Z</dcterms:modified>
  <cp:revision>7</cp:revision>
  <dc:subject/>
  <dc:title>     ch3 /Lecture #4  Brute Force and Exhaustive Search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عرض على الشاشة (3:4)‏</vt:lpwstr>
  </property>
  <property fmtid="{D5CDD505-2E9C-101B-9397-08002B2CF9AE}" pid="4" name="Slides">
    <vt:r8>16</vt:r8>
  </property>
</Properties>
</file>